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15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F6A45-B6E4-4D0E-B63C-007090700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45A65-D325-4951-BDFA-7AB4562B5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F8335-20B4-414A-BDE9-7EF8ADAFB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6A3D1-2CC4-43D2-9959-701FD829D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AC998-2810-40CA-9222-A3F1B2888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5BF0A-C892-4630-9EE7-A898B3C79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76919-BDB2-41BD-B584-6D4BAC795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89C98-DC5B-4F3A-8866-C5A398036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2372B-8B9B-4960-8295-0F7198CB6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4DAE6-7CAB-441E-9B07-FA12EA5B5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FD429-FE41-4DC5-B848-08180E82E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0B134-7743-4145-A93A-A0223C1B5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F8010-506B-46E2-91F6-C6CB86BF762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>
            <a:lum bright="-42000"/>
          </a:blip>
          <a:stretch/>
        </p:blipFill>
        <p:spPr>
          <a:xfrm>
            <a:off x="0" y="3240"/>
            <a:ext cx="9144000" cy="6854760"/>
          </a:xfrm>
          <a:prstGeom prst="rect">
            <a:avLst/>
          </a:prstGeom>
          <a:ln w="76320">
            <a:solidFill>
              <a:srgbClr val="663300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0" y="0"/>
            <a:ext cx="5715000" cy="3048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228600" y="762120"/>
            <a:ext cx="5638680" cy="14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Four Language Systems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>
            <a:lum bright="-66000"/>
          </a:blip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76320">
            <a:solidFill>
              <a:srgbClr val="663300"/>
            </a:solidFill>
            <a:miter/>
          </a:ln>
        </p:spPr>
      </p:pic>
      <p:sp>
        <p:nvSpPr>
          <p:cNvPr id="93" name=""/>
          <p:cNvSpPr/>
          <p:nvPr/>
        </p:nvSpPr>
        <p:spPr>
          <a:xfrm>
            <a:off x="228600" y="152280"/>
            <a:ext cx="5791320" cy="2971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0" y="228240"/>
            <a:ext cx="457200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*Redneck Computer Ter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Arial"/>
              </a:rPr>
              <a:t>BACK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- What you do when you run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cross a skunk in the woods</a:t>
            </a:r>
            <a:br>
              <a:rPr sz="1800"/>
            </a:br>
            <a:r>
              <a:rPr b="0" lang="en-US" sz="1800" spc="-1" strike="noStrike">
                <a:solidFill>
                  <a:srgbClr val="ffff99"/>
                </a:solidFill>
                <a:latin typeface="Arial"/>
              </a:rPr>
              <a:t>BAR COD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- Them's the fight'n rules down at the local tavern</a:t>
            </a:r>
            <a:br>
              <a:rPr sz="1800"/>
            </a:br>
            <a:r>
              <a:rPr b="0" lang="en-US" sz="1800" spc="-1" strike="noStrike">
                <a:solidFill>
                  <a:srgbClr val="ffff99"/>
                </a:solidFill>
                <a:latin typeface="Arial"/>
              </a:rPr>
              <a:t>BU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- The reason you give for calling in sick</a:t>
            </a:r>
            <a:br>
              <a:rPr sz="1800"/>
            </a:br>
            <a:r>
              <a:rPr b="0" lang="en-US" sz="1800" spc="-1" strike="noStrike">
                <a:solidFill>
                  <a:srgbClr val="ffff99"/>
                </a:solidFill>
                <a:latin typeface="Arial"/>
              </a:rPr>
              <a:t>BYT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- What your pit bull dun to cusin Jethro</a:t>
            </a:r>
            <a:br>
              <a:rPr sz="1800"/>
            </a:br>
            <a:r>
              <a:rPr b="0" lang="en-US" sz="1800" spc="-1" strike="noStrike">
                <a:solidFill>
                  <a:srgbClr val="ffff99"/>
                </a:solidFill>
                <a:latin typeface="Arial"/>
              </a:rPr>
              <a:t>CAC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- Needed when you run out of food stamps</a:t>
            </a:r>
            <a:br>
              <a:rPr sz="1800"/>
            </a:br>
            <a:r>
              <a:rPr b="0" lang="en-US" sz="1800" spc="-1" strike="noStrike">
                <a:solidFill>
                  <a:srgbClr val="ffff99"/>
                </a:solidFill>
                <a:latin typeface="Arial"/>
              </a:rPr>
              <a:t>CHIP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 Pasture muffins that you try not to step in</a:t>
            </a:r>
            <a:br>
              <a:rPr sz="1800"/>
            </a:br>
            <a:r>
              <a:rPr b="0" lang="en-US" sz="1800" spc="-1" strike="noStrike">
                <a:solidFill>
                  <a:srgbClr val="ffff99"/>
                </a:solidFill>
                <a:latin typeface="Arial"/>
              </a:rPr>
              <a:t>CRASH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- When you go to Junior's party uninvited</a:t>
            </a:r>
            <a:br>
              <a:rPr sz="1800"/>
            </a:br>
            <a:r>
              <a:rPr b="0" lang="en-US" sz="1800" spc="-1" strike="noStrike">
                <a:solidFill>
                  <a:srgbClr val="ffff99"/>
                </a:solidFill>
                <a:latin typeface="Arial"/>
              </a:rPr>
              <a:t>DIGITAL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 The art of counting on your fingers</a:t>
            </a:r>
            <a:br>
              <a:rPr sz="1800"/>
            </a:br>
            <a:r>
              <a:rPr b="0" lang="en-US" sz="1800" spc="-1" strike="noStrike">
                <a:solidFill>
                  <a:srgbClr val="ffff99"/>
                </a:solidFill>
                <a:latin typeface="Arial"/>
              </a:rPr>
              <a:t>DISKETT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- Female Disco dancer</a:t>
            </a:r>
            <a:br>
              <a:rPr sz="1800"/>
            </a:br>
            <a:r>
              <a:rPr b="0" lang="en-US" sz="1800" spc="-1" strike="noStrike">
                <a:solidFill>
                  <a:srgbClr val="ffff99"/>
                </a:solidFill>
                <a:latin typeface="Arial"/>
              </a:rPr>
              <a:t>FAX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- What you lie about to the IRS</a:t>
            </a:r>
            <a:br>
              <a:rPr sz="1800"/>
            </a:br>
            <a:r>
              <a:rPr b="0" lang="en-US" sz="1800" spc="-1" strike="noStrike">
                <a:solidFill>
                  <a:srgbClr val="ffff99"/>
                </a:solidFill>
                <a:latin typeface="Arial"/>
              </a:rPr>
              <a:t>HACKE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- Uncle Leroy after 32 years of smoking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784760" y="1484280"/>
            <a:ext cx="397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572000" y="152280"/>
            <a:ext cx="4419720" cy="628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ffff99"/>
                </a:solidFill>
                <a:latin typeface="Arial"/>
              </a:rPr>
              <a:t>HARDCOP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- Picture looked at when selecting tattoos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E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- Where cafeteria workers put their hair KEYBOARD - Where you hang the keys to the John Deere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99"/>
                </a:solidFill>
                <a:latin typeface="Arial"/>
              </a:rPr>
              <a:t>MEGAHERTZ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- How your head feels after 17 beers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99"/>
                </a:solidFill>
                <a:latin typeface="Arial"/>
              </a:rPr>
              <a:t>MODE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- What ya did when the grass and weeds got too tall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99"/>
                </a:solidFill>
                <a:latin typeface="Arial"/>
              </a:rPr>
              <a:t>MOUSE PA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- Where Mickey and Minnie live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99"/>
                </a:solidFill>
                <a:latin typeface="Arial"/>
              </a:rPr>
              <a:t>NETWORK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- Scoop'n up a big fish before it breaks the line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99"/>
                </a:solidFill>
                <a:latin typeface="Arial"/>
              </a:rPr>
              <a:t>ONLIN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- Where to stay when taking the sobriety test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99"/>
                </a:solidFill>
                <a:latin typeface="Arial"/>
              </a:rPr>
              <a:t>RO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- Where the pope lives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99"/>
                </a:solidFill>
                <a:latin typeface="Arial"/>
              </a:rPr>
              <a:t>SCREE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- Helps keep the skeeters off the porch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209680" y="6248520"/>
            <a:ext cx="792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Arial"/>
              </a:rPr>
              <a:t>*from:http://www.ahajokes.com/redneck_jokes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858000" y="304920"/>
            <a:ext cx="2008080" cy="33066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7086600" y="380988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>
            <a:lum bright="-42000"/>
          </a:blip>
          <a:stretch/>
        </p:blipFill>
        <p:spPr>
          <a:xfrm>
            <a:off x="3909960" y="274680"/>
            <a:ext cx="1322280" cy="1143000"/>
          </a:xfrm>
          <a:prstGeom prst="rect">
            <a:avLst/>
          </a:prstGeom>
          <a:ln w="76320">
            <a:solidFill>
              <a:srgbClr val="663300"/>
            </a:solidFill>
            <a:miter/>
          </a:ln>
        </p:spPr>
      </p:pic>
      <p:pic>
        <p:nvPicPr>
          <p:cNvPr id="47" name="" descr=""/>
          <p:cNvPicPr/>
          <p:nvPr/>
        </p:nvPicPr>
        <p:blipFill>
          <a:blip r:embed="rId4">
            <a:lum bright="-42000"/>
          </a:blip>
          <a:stretch/>
        </p:blipFill>
        <p:spPr>
          <a:xfrm>
            <a:off x="0" y="3240"/>
            <a:ext cx="9144000" cy="6854760"/>
          </a:xfrm>
          <a:prstGeom prst="rect">
            <a:avLst/>
          </a:prstGeom>
          <a:ln w="76320">
            <a:solidFill>
              <a:srgbClr val="663300"/>
            </a:solidFill>
            <a:miter/>
          </a:ln>
        </p:spPr>
      </p:pic>
      <p:sp>
        <p:nvSpPr>
          <p:cNvPr id="48" name=""/>
          <p:cNvSpPr/>
          <p:nvPr/>
        </p:nvSpPr>
        <p:spPr>
          <a:xfrm>
            <a:off x="380880" y="1295280"/>
            <a:ext cx="5426280" cy="2288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radley Hand ITC"/>
              </a:rPr>
              <a:t>The sound system of English with approximately 44 sound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04920" y="304920"/>
            <a:ext cx="556236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380880" y="228600"/>
            <a:ext cx="52578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Phonological System</a:t>
            </a:r>
            <a:endParaRPr b="0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>
            <a:lum bright="-30000"/>
          </a:blip>
          <a:stretch/>
        </p:blipFill>
        <p:spPr>
          <a:xfrm>
            <a:off x="5181480" y="152280"/>
            <a:ext cx="3810240" cy="518184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-360" y="1828800"/>
            <a:ext cx="5181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 Black"/>
              </a:rPr>
              <a:t>1.Phone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 Black"/>
              </a:rPr>
              <a:t>2. Graphe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 Black"/>
              </a:rPr>
              <a:t>3. Phonological awarenes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ff99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Arial Black"/>
              </a:rPr>
              <a:t>knowledge about sound structu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 Black"/>
              </a:rPr>
              <a:t>4. Phonemic awarenes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Arial Black"/>
              </a:rPr>
              <a:t>ability to manipulate sounds oral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 Black"/>
              </a:rPr>
              <a:t>5. Phonics 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>
            <a:lum bright="-12000"/>
          </a:blip>
          <a:srcRect l="0" t="0" r="5958" b="28692"/>
          <a:stretch/>
        </p:blipFill>
        <p:spPr>
          <a:xfrm>
            <a:off x="7696080" y="304920"/>
            <a:ext cx="1219320" cy="2286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5410080" y="457200"/>
            <a:ext cx="2210040" cy="1981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" name="abc-border-bkg" descr="abc-border-bkg.gif (4593 bytes)"/>
          <p:cNvPicPr/>
          <p:nvPr/>
        </p:nvPicPr>
        <p:blipFill>
          <a:blip r:embed="rId3">
            <a:lum contrast="-12000"/>
          </a:blip>
          <a:srcRect l="0" t="0" r="94097" b="0"/>
          <a:stretch/>
        </p:blipFill>
        <p:spPr>
          <a:xfrm>
            <a:off x="5334120" y="304920"/>
            <a:ext cx="2286000" cy="22096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2727360" y="5827680"/>
            <a:ext cx="6873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 Black"/>
              </a:rPr>
              <a:t>Instruction about phoneme-grapheme correspondences and spelling ru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>
            <a:lum bright="-42000"/>
          </a:blip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76320">
            <a:solidFill>
              <a:srgbClr val="663300"/>
            </a:solidFill>
            <a:miter/>
          </a:ln>
        </p:spPr>
      </p:pic>
      <p:sp>
        <p:nvSpPr>
          <p:cNvPr id="60" name=""/>
          <p:cNvSpPr/>
          <p:nvPr/>
        </p:nvSpPr>
        <p:spPr>
          <a:xfrm>
            <a:off x="152280" y="0"/>
            <a:ext cx="5867640" cy="144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04920" y="1371600"/>
            <a:ext cx="5486400" cy="1752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radley Hand ITC"/>
              </a:rPr>
              <a:t>The structural system of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radley Hand ITC"/>
              </a:rPr>
              <a:t>English that governs how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radley Hand ITC"/>
              </a:rPr>
              <a:t>words are combined into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radley Hand ITC"/>
              </a:rPr>
              <a:t>sentenc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304920" y="152280"/>
            <a:ext cx="563868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Syntactic System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5181480" y="152280"/>
            <a:ext cx="3810240" cy="647712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-360" y="1218960"/>
            <a:ext cx="53341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 Black"/>
              </a:rPr>
              <a:t>Synta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 Black"/>
              </a:rPr>
              <a:t>The structure or grammar of a sent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 Black"/>
              </a:rPr>
              <a:t>Morphe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 Black"/>
              </a:rPr>
              <a:t>The smallest meaningful unit of langua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 Black"/>
              </a:rPr>
              <a:t>Free morphe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 Black"/>
              </a:rPr>
              <a:t>A morpheme that can stand alone as a wo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 Black"/>
              </a:rPr>
              <a:t>Bound morphe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 Black"/>
              </a:rPr>
              <a:t>A morpheme that must be attached to a free morpheme; these are typically affix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228600" y="152280"/>
            <a:ext cx="4495680" cy="95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Syntactic System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6" name="" descr=""/>
          <p:cNvPicPr/>
          <p:nvPr/>
        </p:nvPicPr>
        <p:blipFill>
          <a:blip r:embed="rId4"/>
          <a:srcRect l="-692" t="4198" r="66915" b="22519"/>
          <a:stretch/>
        </p:blipFill>
        <p:spPr>
          <a:xfrm>
            <a:off x="5334120" y="380880"/>
            <a:ext cx="1218960" cy="289584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6553080" y="380880"/>
            <a:ext cx="2362320" cy="2895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5"/>
          <a:srcRect l="35465" t="3108" r="26761" b="50236"/>
          <a:stretch/>
        </p:blipFill>
        <p:spPr>
          <a:xfrm>
            <a:off x="8077320" y="2133720"/>
            <a:ext cx="739800" cy="9144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6629400" y="1600200"/>
            <a:ext cx="268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radley Hand ITC"/>
              </a:rPr>
              <a:t>They call it a relati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radley Hand ITC"/>
              </a:rPr>
              <a:t>“</a:t>
            </a:r>
            <a:r>
              <a:rPr b="1" lang="en-US" sz="1800" spc="-1" strike="noStrike">
                <a:solidFill>
                  <a:srgbClr val="ffffff"/>
                </a:solidFill>
                <a:latin typeface="Bradley Hand ITC"/>
              </a:rPr>
              <a:t>ship” because it so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radley Hand ITC"/>
              </a:rPr>
              <a:t>often sinks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>
            <a:lum bright="-42000"/>
          </a:blip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76320">
            <a:solidFill>
              <a:srgbClr val="663300"/>
            </a:solidFill>
            <a:miter/>
          </a:ln>
        </p:spPr>
      </p:pic>
      <p:sp>
        <p:nvSpPr>
          <p:cNvPr id="73" name=""/>
          <p:cNvSpPr/>
          <p:nvPr/>
        </p:nvSpPr>
        <p:spPr>
          <a:xfrm>
            <a:off x="0" y="0"/>
            <a:ext cx="5943600" cy="3048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228600" y="228600"/>
            <a:ext cx="56386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Symantic System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5" name=""/>
          <p:cNvSpPr/>
          <p:nvPr/>
        </p:nvSpPr>
        <p:spPr>
          <a:xfrm>
            <a:off x="152280" y="1143000"/>
            <a:ext cx="5486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radley Hand ITC"/>
              </a:rPr>
              <a:t>The meaning system of English that focuses on vocabula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>
            <a:lum bright="-30000"/>
          </a:blip>
          <a:stretch/>
        </p:blipFill>
        <p:spPr>
          <a:xfrm>
            <a:off x="5181480" y="152280"/>
            <a:ext cx="3810240" cy="640080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22860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 Black"/>
              </a:rPr>
              <a:t>Semantics</a:t>
            </a:r>
            <a:r>
              <a:rPr b="0" lang="en-US" sz="2800" spc="-1" strike="noStrike">
                <a:solidFill>
                  <a:srgbClr val="ffff99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 Black"/>
              </a:rPr>
              <a:t>the study of how meaning in language is created by the use and interrelationships of words phrases, and senten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257800" y="380880"/>
            <a:ext cx="236232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105520" y="609480"/>
            <a:ext cx="2606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Bradley Hand ITC"/>
              </a:rPr>
              <a:t>I’m not fa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Bradley Hand ITC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Bradley Hand ITC"/>
              </a:rPr>
              <a:t>I’m just fluffy</a:t>
            </a:r>
            <a:r>
              <a:rPr b="1" lang="en-US" sz="2000" spc="-1" strike="noStrike">
                <a:solidFill>
                  <a:srgbClr val="ffffff"/>
                </a:solidFill>
                <a:latin typeface="Bradley Hand ITC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 rot="473400">
            <a:off x="8142120" y="842760"/>
            <a:ext cx="595440" cy="99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>
            <a:lum bright="-42000"/>
          </a:blip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76320">
            <a:solidFill>
              <a:srgbClr val="663300"/>
            </a:solidFill>
            <a:miter/>
          </a:ln>
        </p:spPr>
      </p:pic>
      <p:sp>
        <p:nvSpPr>
          <p:cNvPr id="84" name=""/>
          <p:cNvSpPr/>
          <p:nvPr/>
        </p:nvSpPr>
        <p:spPr>
          <a:xfrm>
            <a:off x="152280" y="0"/>
            <a:ext cx="5867640" cy="3200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152280" y="228600"/>
            <a:ext cx="57150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Pragmatic System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6" name=""/>
          <p:cNvSpPr/>
          <p:nvPr/>
        </p:nvSpPr>
        <p:spPr>
          <a:xfrm>
            <a:off x="152280" y="1219320"/>
            <a:ext cx="5426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radley Hand ITC"/>
              </a:rPr>
              <a:t>The system of English that varies language according to social and cultural us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152280" y="228600"/>
            <a:ext cx="43434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Pragmatic System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>
            <a:lum bright="-30000"/>
          </a:blip>
          <a:stretch/>
        </p:blipFill>
        <p:spPr>
          <a:xfrm>
            <a:off x="5181480" y="152280"/>
            <a:ext cx="3810240" cy="64008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5334120" y="457200"/>
            <a:ext cx="2286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radley Hand ITC"/>
              </a:rPr>
              <a:t>Ebonic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radley Hand ITC"/>
              </a:rPr>
              <a:t>*Befo’ you know it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radley Hand ITC"/>
              </a:rPr>
              <a:t>he had done aced 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radley Hand ITC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Bradley Hand ITC"/>
              </a:rPr>
              <a:t>tes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radley Hand ITC"/>
              </a:rPr>
              <a:t>(Before you know it, h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radley Hand ITC"/>
              </a:rPr>
              <a:t>will have already ace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radley Hand ITC"/>
              </a:rPr>
              <a:t>the test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6440" y="1255680"/>
            <a:ext cx="4816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99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 Black"/>
              </a:rPr>
              <a:t>Function – the purpose for languag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99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 Black"/>
              </a:rPr>
              <a:t>Standard Englis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99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 Black"/>
              </a:rPr>
              <a:t>Nonstandard Englis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47480" y="6132600"/>
            <a:ext cx="653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*from “Ebonics: Study Skill or Slavery Set Ba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www.pub.umich.edu/daily/1997/jan/01-17-97/news/ff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5T19:58:42Z</dcterms:created>
  <dc:creator>Networking and Technical Support</dc:creator>
  <dc:description/>
  <dc:language>en-US</dc:language>
  <cp:lastModifiedBy>Networking and Technical Support</cp:lastModifiedBy>
  <dcterms:modified xsi:type="dcterms:W3CDTF">2007-02-05T23:10:00Z</dcterms:modified>
  <cp:revision>2</cp:revision>
  <dc:subject/>
  <dc:title>Four Language Systems</dc:title>
</cp:coreProperties>
</file>